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ED7C-6DE5-4ECB-A0DF-F01B9898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DAC-05D4-4F77-BE63-2A97AAC1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7FF1-23DD-4300-B6EF-C16184C2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A31-E69E-447B-B4B1-18C88358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06A9-BD01-49BC-A43A-52D57DD9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C17B-E263-42B4-9387-9CD9AD67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E8F3-3EAB-408C-A9B0-DE26BD54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F4B4-15D0-4241-92D1-9DE5E1FF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A4E1-BBEA-48CD-9A3B-69858998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150F-3EC6-4520-BC44-B716CBB7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090B-A3D8-4ADF-BE8B-E66B0A1B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A56-6178-4CBE-98B5-41350154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88A9-B52A-478D-93A9-B667662B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5660-EBE1-409A-B1F1-D3BB244B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1B05-42F9-447F-A4CE-C008CA9A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8B43-E33F-4569-A93D-70EF7669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FE78-F8F6-47E3-879D-6A165639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F28-CDA4-4B4A-95C7-1C9C27D4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3C3-0F3F-4B68-9E59-0260BDC2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7DDA-B76F-4245-A68F-B4E1BF05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F96-0BD0-4CAA-90C8-C4477174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1CE-3C75-476A-BA2F-0FA903DA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9C5-BDB9-4CB3-8A0F-E26FF7AE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96DD-1920-4EA2-A705-2C9B8677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37A8-B804-4ECF-8AD4-3CA8F6FCF36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CDCC-1F92-4945-BA07-004E7ECD484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chnology &amp; Weap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tivity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 a (uno, one, etc.) partner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 SEPARATE PAP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view the excerpts and the descriptions and create a list that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atches the excerpt to the descrip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xplain why you made the match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4:55:31Z</dcterms:created>
  <dc:creator>School District U46</dc:creator>
  <dc:description/>
  <dc:language>en-US</dc:language>
  <cp:lastModifiedBy>School District U46</cp:lastModifiedBy>
  <dcterms:modified xsi:type="dcterms:W3CDTF">2008-11-06T15:00:06Z</dcterms:modified>
  <cp:revision>1</cp:revision>
  <dc:subject/>
  <dc:title>Technology &amp; Weapons</dc:title>
</cp:coreProperties>
</file>